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28AF-0E0A-4348-9DC0-E91B1E87E3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6A86-210E-4B03-8E41-AE49C19BB1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630F-1D6B-47C4-A43F-16B13D4E13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C58C-7389-453D-ABD3-B46CEDFE4C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73C0-C3F5-4F18-AE7F-93D37B5724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B9E2-4DB7-4688-A198-490288C7EA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9BC-735B-43D8-8640-304687804D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3924-418D-4D57-8677-98A17CED15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C16D-BBF0-48A9-B854-A90085845B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5E39-2F13-4E56-8E03-1E38C0F1F8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A7CB-6103-4072-827A-60248A4F4F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EF73-D020-42A0-8C30-886AEF247B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8C17-CC4F-42E8-9933-0CC8016D45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ゴシック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ゴシック"/>
              </a:rPr>
              <a:t>Women's Rights 1890-1920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6" descr="2642714"/>
          <p:cNvPicPr/>
          <p:nvPr/>
        </p:nvPicPr>
        <p:blipFill>
          <a:blip r:embed="rId1"/>
          <a:stretch/>
        </p:blipFill>
        <p:spPr>
          <a:xfrm>
            <a:off x="3406680" y="2514600"/>
            <a:ext cx="291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13"/>
          <p:cNvSpPr/>
          <p:nvPr/>
        </p:nvSpPr>
        <p:spPr>
          <a:xfrm>
            <a:off x="990720" y="1263600"/>
            <a:ext cx="7086600" cy="9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1444680" y="48006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oman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Christian Temperance Un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rew steadily until the passage of the 18th Amendment which banned the sale and production of alcohol in 191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371600" y="129528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supported the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temperance mov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209680" y="2895480"/>
            <a:ext cx="44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felt that alcohol often led men to spend their earnings on liquor, neglect their families, and abuse their w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248520" y="1752480"/>
            <a:ext cx="2438280" cy="3794400"/>
          </a:xfrm>
          <a:prstGeom prst="rect">
            <a:avLst/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AutoShape 5"/>
          <p:cNvSpPr/>
          <p:nvPr/>
        </p:nvSpPr>
        <p:spPr>
          <a:xfrm flipH="1" rot="5400000">
            <a:off x="2980440" y="2123640"/>
            <a:ext cx="3791160" cy="3048120"/>
          </a:xfrm>
          <a:prstGeom prst="upArrowCallout">
            <a:avLst>
              <a:gd name="adj1" fmla="val 25833"/>
              <a:gd name="adj2" fmla="val 25002"/>
              <a:gd name="adj3" fmla="val 16750"/>
              <a:gd name="adj4" fmla="val 42452"/>
            </a:avLst>
          </a:prstGeom>
          <a:gradFill rotWithShape="0">
            <a:gsLst>
              <a:gs pos="0">
                <a:srgbClr val="83d7e5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5"/>
          <p:cNvSpPr/>
          <p:nvPr/>
        </p:nvSpPr>
        <p:spPr>
          <a:xfrm flipH="1" rot="5400000">
            <a:off x="83160" y="2125440"/>
            <a:ext cx="3794400" cy="3048120"/>
          </a:xfrm>
          <a:prstGeom prst="upArrowCallout">
            <a:avLst>
              <a:gd name="adj1" fmla="val 25014"/>
              <a:gd name="adj2" fmla="val 24015"/>
              <a:gd name="adj3" fmla="val 16250"/>
              <a:gd name="adj4" fmla="val 42452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324480" y="2066760"/>
            <a:ext cx="228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21, Sanger founded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merican Birth Control Leag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o make information available to women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76280" y="1886040"/>
            <a:ext cx="2362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1916,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Margaret Sa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opened the first birth control clinic. She believed tha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having fewer children would lead to healthier wo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352680" y="2395440"/>
            <a:ext cx="2438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he was jailed. The courts eventually ruled that doctors could give out family planning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6"/>
          <p:cNvSpPr/>
          <p:nvPr/>
        </p:nvSpPr>
        <p:spPr>
          <a:xfrm flipH="1" rot="10792800">
            <a:off x="1266120" y="1499400"/>
            <a:ext cx="6553080" cy="1623960"/>
          </a:xfrm>
          <a:prstGeom prst="upArrowCallout">
            <a:avLst>
              <a:gd name="adj1" fmla="val 45737"/>
              <a:gd name="adj2" fmla="val 42370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009800" y="3200400"/>
            <a:ext cx="708660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Ida B. Well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ounded 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National Association of Colored Wom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or NACW in 189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NACW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upported day care centers for the children of working par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lls also worked for suffrage, to end lynchings, and to stop segregation in the Chicago schoo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906560" y="160020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rican Americans also worked for wome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righ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9"/>
          <p:cNvSpPr/>
          <p:nvPr/>
        </p:nvSpPr>
        <p:spPr>
          <a:xfrm>
            <a:off x="838080" y="1295280"/>
            <a:ext cx="74678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198"/>
          <p:cNvSpPr/>
          <p:nvPr/>
        </p:nvSpPr>
        <p:spPr>
          <a:xfrm>
            <a:off x="1143000" y="144792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Ultimatel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uffrag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seen as the only way to ensure that government protected children, fostered education, and supported family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447920" y="3276720"/>
            <a:ext cx="6172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ince the 1860s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usan B. Anthon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Elizabeth Cady Stant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rked relentlessly f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suffrage - their right to vote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till, by the 1890s, only Wyom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Colorado allowed women to vo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0"/>
          <p:cNvSpPr/>
          <p:nvPr/>
        </p:nvSpPr>
        <p:spPr>
          <a:xfrm flipH="1" rot="10792800">
            <a:off x="834480" y="1219320"/>
            <a:ext cx="7468920" cy="2286000"/>
          </a:xfrm>
          <a:prstGeom prst="upArrowCallout">
            <a:avLst>
              <a:gd name="adj1" fmla="val 39362"/>
              <a:gd name="adj2" fmla="val 43321"/>
              <a:gd name="adj3" fmla="val 27056"/>
              <a:gd name="adj4" fmla="val 65114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990720" y="12952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1890s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arrie Chapman Catt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esident of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American Suffrage Associatio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omoted a two-part strategy to gain the vote for wom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3478320"/>
            <a:ext cx="525780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WS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lobbied Congress for a constitutional amend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upporters, calle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uffraget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, used the referendum process to pass state la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1600200" y="330516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entury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1600200" y="42670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entury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hsus_ch_017_s.2_alicepaul_dd.jpg"/>
          <p:cNvPicPr/>
          <p:nvPr/>
        </p:nvPicPr>
        <p:blipFill>
          <a:blip r:embed="rId1"/>
          <a:stretch/>
        </p:blipFill>
        <p:spPr>
          <a:xfrm>
            <a:off x="3786120" y="2554200"/>
            <a:ext cx="4291200" cy="2779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9"/>
          <p:cNvSpPr/>
          <p:nvPr/>
        </p:nvSpPr>
        <p:spPr>
          <a:xfrm>
            <a:off x="990720" y="1492200"/>
            <a:ext cx="73152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7, social activists led by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lice Pau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ormed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National Woman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 Party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eir radical actions made the suffrage movem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goals seem les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ramatic by comparis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19320" y="3352680"/>
            <a:ext cx="274320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NWP picketed the White Ho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undreds of suffragettes were arrested and jail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 flipH="1" rot="5400000">
            <a:off x="1028160" y="1866960"/>
            <a:ext cx="2895840" cy="3124080"/>
          </a:xfrm>
          <a:prstGeom prst="upArrowCallout">
            <a:avLst>
              <a:gd name="adj1" fmla="val 19344"/>
              <a:gd name="adj2" fmla="val 18421"/>
              <a:gd name="adj3" fmla="val 16956"/>
              <a:gd name="adj4" fmla="val 45388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151596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962520" y="1905120"/>
            <a:ext cx="4419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National Association Opposed to Woman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Suffrag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eared voting would distract women from their family ro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any men and women were offended by Paul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protes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in front of the White House. A mob shredded her signs and pi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276200" y="2716200"/>
            <a:ext cx="19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ot all women supported suffr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ch17_maps_hsus_se_p0562"/>
          <p:cNvPicPr/>
          <p:nvPr/>
        </p:nvPicPr>
        <p:blipFill>
          <a:blip r:embed="rId1"/>
          <a:stretch/>
        </p:blipFill>
        <p:spPr>
          <a:xfrm>
            <a:off x="2438280" y="1467000"/>
            <a:ext cx="606600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38080" y="1600200"/>
            <a:ext cx="205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tates gradually granted suffrage to women, starting in the western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9"/>
          <p:cNvSpPr/>
          <p:nvPr/>
        </p:nvSpPr>
        <p:spPr>
          <a:xfrm>
            <a:off x="762120" y="144792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June 1919,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ineteenth Amendment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assed by Congress. The amendment stated that the vote </a:t>
            </a:r>
            <a:r>
              <a:rPr b="1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hall not be denied or abridged on account of sex.</a:t>
            </a:r>
            <a:r>
              <a:rPr b="1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r>
              <a:rPr b="1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066680" y="320040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ue to the efforts of the suffragists, women nationwide voted in a presidential election for the first time on November 2, 192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8" descr="2642714"/>
          <p:cNvPicPr/>
          <p:nvPr/>
        </p:nvPicPr>
        <p:blipFill>
          <a:blip r:embed="rId1"/>
          <a:stretch/>
        </p:blipFill>
        <p:spPr>
          <a:xfrm>
            <a:off x="4648320" y="2666880"/>
            <a:ext cx="2517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1135080" y="213372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the impact of changes in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education on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roles in socie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at women did to win worker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ights and to improve family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the tactics women used to win passage of the Nineteenth Amend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55760" y="13701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37016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143000" y="1828800"/>
            <a:ext cx="762012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lorence Kelle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ounded the National Consumer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League (NC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Consumer</a:t>
            </a:r>
            <a:r>
              <a:rPr b="1" lang="ja-JP" sz="2200" spc="-1" strike="noStrike">
                <a:solidFill>
                  <a:srgbClr val="ff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 League (NCL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roup that labeled and publicized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oods produced under fair, safe, and healthy working condition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temperance move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imed at stopping alcohol abuse and the problems created by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argaret Sange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nurse who opened the first birth control clin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550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Ida B. Well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elped to found the National Association of Colored Women (NAC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5760" y="13716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066680" y="1981080"/>
            <a:ext cx="76201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uffrag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the right to v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Carrie Chapman Cat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president of the NAWSA, campaigned to pass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suffrage at both the state and national leve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American Woman Suffrage Associ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roup that worked on the state and national levels to earn women the right to v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lice Pau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ocial activist, led women to picket at the White House to get the right to v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ineteenth Amend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1919, constitutional amendment that granted women the right to v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2"/>
          <p:cNvSpPr/>
          <p:nvPr/>
        </p:nvSpPr>
        <p:spPr>
          <a:xfrm>
            <a:off x="1476360" y="2971800"/>
            <a:ext cx="6781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the early 1900s, many women were no longer content to play a limited role in society. Activists helped bring about Progressive reforms including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suffrag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omen would continue the struggle to expand their roles and rights in the fut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447920" y="15238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ow did women of the Progressive Era make progress and win the right to vo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9" descr="HSUS09_EQ_logoSmall"/>
          <p:cNvPicPr/>
          <p:nvPr/>
        </p:nvPicPr>
        <p:blipFill>
          <a:blip r:embed="rId1"/>
          <a:stretch/>
        </p:blipFill>
        <p:spPr>
          <a:xfrm>
            <a:off x="73656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29"/>
          <p:cNvSpPr/>
          <p:nvPr/>
        </p:nvSpPr>
        <p:spPr>
          <a:xfrm>
            <a:off x="3962520" y="48006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ever, most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oor women continued to labor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ong hours, often under dangerous or dirty cond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028880" y="1371600"/>
            <a:ext cx="72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By the early 1900s, a growing number of middle-class women wanted to do more than stay at home as wives and moth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281952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lleges like Pennsylvania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Bryn Mawr and New York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 School of Social Work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rmed middle-class women with education and modern ide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 flipH="1" rot="5400000">
            <a:off x="1180800" y="2019240"/>
            <a:ext cx="3200400" cy="3124080"/>
          </a:xfrm>
          <a:prstGeom prst="upArrowCallout">
            <a:avLst>
              <a:gd name="adj1" fmla="val 18299"/>
              <a:gd name="adj2" fmla="val 16467"/>
              <a:gd name="adj3" fmla="val 16958"/>
              <a:gd name="adj4" fmla="val 44166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29"/>
          <p:cNvSpPr/>
          <p:nvPr/>
        </p:nvSpPr>
        <p:spPr>
          <a:xfrm>
            <a:off x="1428840" y="245736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 reforms addressed working wome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condi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343400" y="1905120"/>
            <a:ext cx="380988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 indent="-2286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orked long hou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factories and sweatshops, or as maids, laundresses or servan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28600" indent="-2286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wer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aid less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d often did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 get to keep their w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28600" indent="-2286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wer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intimidated and bullied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y emplo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 rot="10800000">
            <a:off x="762120" y="1428480"/>
            <a:ext cx="7619760" cy="129528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133720" y="3200400"/>
            <a:ext cx="48290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ull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regon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the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upreme Court ruled that states could legally limit a women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ork day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is ruling recognize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unique role of women 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92320" y="15048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eformers saw limiting the length of a woman</a:t>
            </a:r>
            <a:r>
              <a:rPr b="1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work day as an important goal and succeeded in several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0"/>
          <p:cNvSpPr/>
          <p:nvPr/>
        </p:nvSpPr>
        <p:spPr>
          <a:xfrm flipH="1" rot="10792800">
            <a:off x="835920" y="1445760"/>
            <a:ext cx="7469280" cy="2210040"/>
          </a:xfrm>
          <a:prstGeom prst="upArrowCallout">
            <a:avLst>
              <a:gd name="adj1" fmla="val 39371"/>
              <a:gd name="adj2" fmla="val 43326"/>
              <a:gd name="adj3" fmla="val 27056"/>
              <a:gd name="adj4" fmla="val 65114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ounded Rectangle 13"/>
          <p:cNvSpPr/>
          <p:nvPr/>
        </p:nvSpPr>
        <p:spPr>
          <a:xfrm>
            <a:off x="914400" y="3733920"/>
            <a:ext cx="7467480" cy="266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066680" y="14479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899,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Florence Kelle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helped found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Consumers Leag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hich aimed to make workplaces safer and urged women to buy products made in safe condi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90720" y="3887640"/>
            <a:ext cx="73911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lorence Kelley also founded the Women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 Trade Union League which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worked for a federal minimum wage and a national eight-hour workd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TUL also helped support families who refused to work in unsafe or unfair condi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0:35:12Z</dcterms:created>
  <dc:creator>Helene Avraham</dc:creator>
  <dc:description/>
  <dc:language>en-US</dc:language>
  <cp:lastModifiedBy>Mark Scacewater</cp:lastModifiedBy>
  <cp:lastPrinted>2008-05-21T18:42:16Z</cp:lastPrinted>
  <dcterms:modified xsi:type="dcterms:W3CDTF">2012-09-30T20:32:47Z</dcterms:modified>
  <cp:revision>282</cp:revision>
  <dc:subject/>
  <dc:title>PresentationExp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